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B00-21C8-4A00-9AED-D76A7BDD0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G may be sequence in an enh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apter GUI allows selection of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number of Q20 bp per 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</a:rPr>
              <a:t>Genome Sequencing</a:t>
            </a:r>
            <a:br>
              <a:rPr sz="5400"/>
            </a:br>
            <a:br>
              <a:rPr sz="5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574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MOD April 26-28, 2004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Kim C. Worley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3638" t="0" r="20000" b="0"/>
          <a:stretch/>
        </p:blipFill>
        <p:spPr>
          <a:xfrm>
            <a:off x="228600" y="2666880"/>
            <a:ext cx="17002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urple Sea Urchi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ongylocentrotus purpuratu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15% of reads have premature termination due to poly G sequen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lementary poly C sequence does not have the same effec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se regions will have 1/2 x the average coverag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lymorphic - not inbr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extent of this may be underestimated due to the premature termination abov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533520" y="685800"/>
            <a:ext cx="5562360" cy="5562720"/>
            <a:chOff x="533520" y="685800"/>
            <a:chExt cx="5562360" cy="5562720"/>
          </a:xfrm>
        </p:grpSpPr>
        <p:sp>
          <p:nvSpPr>
            <p:cNvPr id="70" name=""/>
            <p:cNvSpPr/>
            <p:nvPr/>
          </p:nvSpPr>
          <p:spPr>
            <a:xfrm flipV="1">
              <a:off x="761760" y="2514240"/>
              <a:ext cx="151920" cy="6858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914040" y="1371240"/>
              <a:ext cx="228240" cy="106668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33520" y="3352320"/>
              <a:ext cx="228240" cy="7621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61760" y="4724280"/>
              <a:ext cx="304560" cy="144792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1676160" y="5562360"/>
              <a:ext cx="15192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828440" y="4952520"/>
              <a:ext cx="152280" cy="68580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4760" y="5028840"/>
              <a:ext cx="304560" cy="11430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209680" y="2971440"/>
              <a:ext cx="456840" cy="20574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657240" y="990360"/>
              <a:ext cx="685440" cy="281916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124080" y="2666520"/>
              <a:ext cx="761400" cy="35053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124080" y="3886200"/>
              <a:ext cx="456840" cy="22096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819160" y="5181480"/>
              <a:ext cx="228240" cy="990720"/>
            </a:xfrm>
            <a:prstGeom prst="line">
              <a:avLst/>
            </a:prstGeom>
            <a:ln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190760" y="3504960"/>
              <a:ext cx="151920" cy="6094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419360" y="5562360"/>
              <a:ext cx="151920" cy="5331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4419000" y="4038120"/>
              <a:ext cx="533160" cy="2133720"/>
            </a:xfrm>
            <a:prstGeom prst="line">
              <a:avLst/>
            </a:prstGeom>
            <a:ln w="1908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4952880" y="838080"/>
              <a:ext cx="1142640" cy="5029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342680" y="5562360"/>
              <a:ext cx="152280" cy="685800"/>
            </a:xfrm>
            <a:prstGeom prst="line">
              <a:avLst/>
            </a:prstGeom>
            <a:ln w="19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2742480" y="5257440"/>
              <a:ext cx="152280" cy="7621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523880" y="5562360"/>
              <a:ext cx="75600" cy="533160"/>
            </a:xfrm>
            <a:prstGeom prst="line">
              <a:avLst/>
            </a:prstGeom>
            <a:ln w="190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2438280" y="5486040"/>
              <a:ext cx="151920" cy="68580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285280" y="4952880"/>
              <a:ext cx="152280" cy="6098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142640" y="2590920"/>
              <a:ext cx="761760" cy="3581280"/>
            </a:xfrm>
            <a:prstGeom prst="line">
              <a:avLst/>
            </a:prstGeom>
            <a:ln w="19080">
              <a:solidFill>
                <a:srgbClr val="e4e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6172200"/>
              <a:ext cx="55623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20" y="685800"/>
              <a:ext cx="0" cy="548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040" y="1066680"/>
              <a:ext cx="152280" cy="685800"/>
            </a:xfrm>
            <a:prstGeom prst="line">
              <a:avLst/>
            </a:prstGeom>
            <a:ln w="19080">
              <a:solidFill>
                <a:srgbClr val="00b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352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66680" y="6248520"/>
              <a:ext cx="4568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98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096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9056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81280" y="6248520"/>
              <a:ext cx="756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6248520"/>
              <a:ext cx="3045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43040" y="6248520"/>
              <a:ext cx="7596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1640" y="6248520"/>
              <a:ext cx="152388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95480" y="6248520"/>
              <a:ext cx="228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cc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15000" y="60912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ea Urchin Polymorphism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Genome Assembl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9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etrics for Quality of Assembl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nished sequence comparis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der and Orientation of assembled contig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ness of bp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arison to other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pleteness and correctness of represent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RNA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arker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 Cost is Everyth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trics for inexpensive bases or rea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Q20 bas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st per read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 measure of success of project being good quality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quence only the AT rich parts of the genom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ss segmental duplications - interesting biolog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ecently evolving gene families that highlight species differ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hallenges Due to Changes in Production to Increase Read Length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utions - addressed by adjusting insert siz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re overlapping mate-pair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kew overlap statistic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lem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ewer reads total (project promised total bp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irtual read length increase - no assembly improvement, since Phrap uses low quality ba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mbl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ads are easy (commodit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tig assembly is becoming easy (with exception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rder and Orientation requires paired end link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inning to chromosomes requires high density m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umanized genomes or Homogenized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e for protein coding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gulatory sequenc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ill miss recent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ture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ss dat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x coverage on many genom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markers, ESTs, mRNA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ew BACs, Fosmid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ittle map inform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ertain quality assembli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sequences from the correct organism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capture the bulk of the genes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es the assembly faithfully represent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re the contigs properly scaffolded to the genome?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fects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complete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loning bias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Short contigs, many gap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himeric Gene Predic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incorrectly placed or joined contig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roblems for Gene famili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t Segmental duplic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interesting biology (what makes organisms different)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ost difficult for WGS only and low coverage methods to resolv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s Characterized Genomes - Gene Predic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 novo without evidenc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ools developed for particular genome may not transfer wel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ittle expressed sequenc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tein sequence from other specie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sembl  must stick to mammals in the future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quencing, Assembly, Finishing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act on Anno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interrupt genes (poor prediction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ps that  contain genes (missing data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uplications (extra gene copie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llapsed regions (missed gene duplications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rder and orient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romosome location erro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uture Genomes will be Draf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quired Component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nish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syntenic breakpoint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cus on gene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esolve duplicated regions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 sequenc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quality assessment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pping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or long range scaffolding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3341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terat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difficul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eric de novo tool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ul Havla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James Durbi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ui Ch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my E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ephen Rich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ue Liu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rica Sodergre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ingshan L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enry So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in X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uayang Jia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eks Milosalvjevic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vid A. Wheele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yan Lozado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iran Pasternak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na M. Muzn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ron We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hannon P. Duga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an Ding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hristian Buha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orge M. Weinstock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ichard A. Gibb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Developmen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difications at BCM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Data Modific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Ensembl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core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homo_sapiens_est_15_33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ontig based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ed MySQL database tabl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store feature sequence(cDNA, ESTs, etc...)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UCSC data (coordinates and sequence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mport annotations from UCSC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nome coordinat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mited data to chromosomes 3 and 12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Fun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GUI allows users to select a chromosome and a range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Retrieves features in region from database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grouped based on the Apollo data objects (SeqFeatures and FeatureSets)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eatures are added to a curation set.  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new regions all Ensembl genepredictions are "promoted" to the blue annotation are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For previously curated regions a GAME Adaptor is instantiated within the Baylor adaptor to read the existing annotations from the GAMEXML file into a GenericAnnotationSet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Annotations are saved in a GAMEXML file.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 Modifications: 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ollo adaptor is a java package used to load feature data into Apollo from any database.  This adaptor is tied to Apollo version 1.3.5. 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dified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pollo.dataadapter.organism.OrganismAdap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move the binding of gene definition to name adaptors. 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w name adapter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u.bcm.hgsc.apollo.dataadapter.organism.HumanNameAdapter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 control behavior of the "Show Gene Report" menu item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aylor Adaptor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ot upgraded to version 1.4.2 because it appears that some packages have been reorganized (or organized)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nsists of 95 java classes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0 junit test class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de duplication is minimal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ployed using Ant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ign patterns, Refactoring, and Test Driven Development were use in creating the adaptor.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ceedures  to Annotate Huma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fined regions to avoid overlap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signed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maller regions or trimmed data for some reg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anning genes annotated in one region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 rare cases spanning genes annotated in separate overlap regions with unique annotation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notation Repor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bank feature table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ccounts of genes and transcripts 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ssigned regio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y annotator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 count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known 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eviously unknown genes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Sequence variation between genomic sequence and cDNA evidence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verview of Sequence Method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ole Genome Shotgun (WGS) on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ast, inexpensiv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ood scaffolds with different insert size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ollapse recent duplications and repea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  + WG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ore expensive (more shotgun libraries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tter resolution of duplications (local assembly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AC pools - potentially more efficient skim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expensive shortcut when resources unavailabl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an create artifacts in the assembly - no mousified r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3260" r="0" b="0"/>
          <a:stretch/>
        </p:blipFill>
        <p:spPr>
          <a:xfrm>
            <a:off x="514440" y="304920"/>
            <a:ext cx="8020080" cy="620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Annotation Accounting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085" t="18971" r="0" b="3511"/>
          <a:stretch/>
        </p:blipFill>
        <p:spPr>
          <a:xfrm>
            <a:off x="914400" y="1143000"/>
            <a:ext cx="739152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onderful for manual cur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Work is needed to make it a more portable tool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base for curated annotation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ownload for local operation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eek a standardized GAMEXML schema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ital for ease of use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r communication of all users and develop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crease time required to "plug into apollo" from any data source.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eal Genom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aploid or Inbred organism (less polymorphism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Map (better higher order scaffolding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GS (several insert size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skims (local assembly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ll behaved distribution of clone represen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ST/mRNA data for QC, Assembly and Annota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nished sequences for QC, QA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nough coverage (7x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l Genomes are not Idea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219320"/>
          <a:ext cx="8686800" cy="5062320"/>
        </p:xfrm>
        <a:graphic>
          <a:graphicData uri="http://schemas.openxmlformats.org/drawingml/2006/table">
            <a:tbl>
              <a:tblPr/>
              <a:tblGrid>
                <a:gridCol w="2133720"/>
                <a:gridCol w="1676160"/>
                <a:gridCol w="2667240"/>
                <a:gridCol w="2209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K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ploi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utb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en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pars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10kb, 50kb, 20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, 50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k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andom in some 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iased in all cas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AC e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,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 or not paire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 3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 100/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RN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x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ome/one strand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y/both strand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Mb - 100M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0Mb - 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&gt;1Gb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Genome Characteristics and Resources Available Change the Methods and Outco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9800" y="1981080"/>
            <a:ext cx="820440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CM Genom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71480"/>
          <a:ext cx="8344080" cy="3992760"/>
        </p:xfrm>
        <a:graphic>
          <a:graphicData uri="http://schemas.openxmlformats.org/drawingml/2006/table">
            <a:tbl>
              <a:tblPr/>
              <a:tblGrid>
                <a:gridCol w="2286000"/>
                <a:gridCol w="838080"/>
                <a:gridCol w="914400"/>
                <a:gridCol w="838440"/>
                <a:gridCol w="838080"/>
                <a:gridCol w="762120"/>
                <a:gridCol w="914400"/>
                <a:gridCol w="9525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.no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.mu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B.tau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.pur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D.p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. mel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.cas.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lymorphism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rker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Insert Size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lone Distribution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T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inished Sequenc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verag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Sequence Bias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Genome Size</a:t>
                      </a:r>
                      <a:endParaRPr b="0" lang="en-US" sz="18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urrent Experi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w - Bos taur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b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BAC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ap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TL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38120" y="19810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hesus - Macaca mulat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rge geno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or resource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ST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arati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genome sequence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Use Human markers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AC resources to improve assemb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oneybee - Apis mellifer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T rich regions miss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oking at orthologous insect genes some were poorly represented, and those were more AT rich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radient centrifugation to separate on base composition and select AT rich fra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as in BAC represent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al deletions that corrupt the assembly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CM HGSC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14:48Z</dcterms:created>
  <dc:creator>Kim C. Worley</dc:creator>
  <dc:description/>
  <dc:language>en-US</dc:language>
  <cp:lastModifiedBy>Kim C. Worley</cp:lastModifiedBy>
  <cp:lastPrinted>2004-04-19T18:03:29Z</cp:lastPrinted>
  <dcterms:modified xsi:type="dcterms:W3CDTF">2004-04-26T20:00:23Z</dcterms:modified>
  <cp:revision>873</cp:revision>
  <dc:subject/>
  <dc:title>PowerPoint Presentation  -  Entrez</dc:title>
</cp:coreProperties>
</file>